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776-5D28-4AAD-A959-EE02D253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A85-8E30-4140-B89D-DFBE6210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D86-7FB3-4849-889A-9B5E2FE3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233-AD11-4030-A71F-68E3B10E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F422-ACE9-4446-9950-4A7A0822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D679-B06C-4B48-9A4C-CC69D84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BFBE-7892-40BC-AD12-DB207DC3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80A0-3982-4BC2-B766-2EA8A8E2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EA1B-484E-494C-83EB-94360650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0CCA-FE79-4FF9-849C-5C9CE4FD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EADB-DE4E-463E-9863-756EE6FB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DE7-BF9C-4472-B894-16E3BBA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DBE8-25DE-42DF-89B9-4BE523D1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6E20-F7D5-49C0-94A6-0D3A8875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E027-C0C4-4E77-8867-7A4B22A1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32A7-2A80-465E-A717-AD8F436A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13D6-22FB-4F54-B35B-8C9A7C5D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722-272A-433A-8764-BF0BD562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345-BFD6-4536-B882-007B1859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E1A-87CC-46FC-89E2-59EDF7C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DAC-8337-4E4E-9611-4CC91D6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C13-4145-42DA-B010-FDB31FF4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5F1-D863-4018-BA94-3C1DF02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609-EF1C-4FB0-8887-E26A9CCB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6037-D463-4853-9739-A43F27EE7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9F44-4777-44DA-ADE3-EEA8830C5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HOW TO DO OPERATIONS IN SCIENTIFIC NOTATION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18270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USING YOUR E, Exp, or EE KEY IN YOUR CALCULATOR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ry a few 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1.66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4 EE-3 X 1.66 EE 4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4 Exp-3 X 1.66Exp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4E-3 X 1.66 E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.78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77080" y="5229360"/>
            <a:ext cx="182736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ultiplying in Scientific No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612800"/>
            <a:ext cx="86043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 3.24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1.6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Multiply the Bases:  (Numbers in front of the multiplication sign)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4 X 1.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5.37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Add the exponents:  (-3) + (4) 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“one” becomes the exponent = 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is underst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Now: 5.3784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3.7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59640" y="5300640"/>
            <a:ext cx="18270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Let’s try one more, WITHOUT A CALCULATOR…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022 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3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 2.55 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Multiply the b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22X2.55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Add the ex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+2=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 15.35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Move the decimal point to the left one space, to have only one whole number. If I move one space to the left, my exponent increase in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answer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535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62880" y="2465280"/>
            <a:ext cx="17776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viding in Scientific Not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3.24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Divide the Bases:  (Number in front of the multiplication sign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.2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.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Subtract the exponent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3) -(4)  = 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“negative 7” becomes the exponent =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 Our answer is: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95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48360" y="1125360"/>
            <a:ext cx="182736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3:14:50Z</dcterms:created>
  <dc:creator> </dc:creator>
  <dc:description/>
  <dc:language>en-US</dc:language>
  <cp:lastModifiedBy> </cp:lastModifiedBy>
  <dcterms:modified xsi:type="dcterms:W3CDTF">2007-11-11T15:22:20Z</dcterms:modified>
  <cp:revision>2</cp:revision>
  <dc:subject/>
  <dc:title>HOW TO USE MY SCIENTIFIC CALCULATOR </dc:title>
</cp:coreProperties>
</file>